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19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3.jpeg" ContentType="image/jpeg"/>
  <Override PartName="/ppt/media/image27.jpeg" ContentType="image/jpeg"/>
  <Override PartName="/ppt/media/image21.wmf" ContentType="image/x-wmf"/>
  <Override PartName="/ppt/media/image6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DFE-AC51-4B9C-AEC8-F9A6AA84D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DABD-C8A9-4A53-A115-77C998C51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B84-B1A4-4215-9F69-949E7798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8A4-BD13-458E-BFF2-521B63F2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86E-4E6D-45ED-AE6B-D1D5C27A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585-1DFB-4A36-A305-D138A4F0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2B9-D4CA-41B4-890A-2A6F7975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A6B-2BBF-4D45-A94F-5ACB6BFA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104-1512-4BB2-BFAF-076812A4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D6B-DA8E-4296-9012-8D6FC587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C5A-2711-4A33-8012-85E4C7E8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FBD-907F-49B4-9919-AC833CFE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9AB-E19E-4DF7-B58D-67B7EE0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426-D883-4944-B0DB-B3EE78E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9315-6BB8-4BB4-BAC1-75B5A05E7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Опасные невидимки жилых поме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Автор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Гапон Ан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Иванц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Научный руководитель: Моторная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нолеу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124080" y="3733920"/>
            <a:ext cx="2730600" cy="2047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ала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нке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Что вы знаете о негативном влиянии воздуха на организм челове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к вы думаете что является источником загрязнения воздуха помещен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блюдали ли вы ухудшение своего самочувствия или своих близких людей, после переез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другой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другую кварти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сле установки новой меб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сле ремо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наете ли вы какие опасные для здоровья вещества выделяют стены, потолка, мебель (особенно из ДСП), ковра, а также всевозможных искусственных покрытий, лаков, красок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урит кто – либо из ваших родных в вашей семье? Если да, то где конкре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лестничной площа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уал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комна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балк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Какая мебель в вашей квартире (комнате, спальне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 Д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 прессованных синтетических пл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Чем покрыт пол в вашей квартире (комнате, спаль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инолеу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химическим пала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рке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Какие нагревательные приборы в вашей квартир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азовая пл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лектрическая пл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лектронагреват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ло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 Знаете ли вы какие комнатные растения поглощают вредные вещества воздуха в помещении и выделяют фитонциды(вещества, которые губительно действуют на вредную флору жилища)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. Какие комнатные растения есть в вашей квартир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вы думаете, что является источником загрязнения воздуха помеще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447920" y="1828800"/>
          <a:ext cx="5957640" cy="457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595764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блюдали ли вы ухудшение своего самочувствия или своих близких людей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1905120" y="1981080"/>
          <a:ext cx="5500440" cy="43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50044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ая мебель в вашей квартире (комнате, спальне)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676520" y="1905120"/>
          <a:ext cx="5881680" cy="451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588168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м покрыт пол в вашей квартире (комнате, спальне)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2119320" y="1981080"/>
          <a:ext cx="5500800" cy="42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1981080"/>
                    <a:ext cx="55008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ие нагревательные приборы в вашей квартир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371600" y="1625760"/>
          <a:ext cx="7010280" cy="490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25760"/>
                    <a:ext cx="7010280" cy="49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ели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ведомить население об экологии жилищных помещ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казать в доступной и популярной форме экологическое состояние воздуха в жилых помещ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явить основные источники загрязнения воздуха в жилых помещ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ить какими веществами загрязняется воздух  жилых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ложить меры по улучшению воздуха  жил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езультаты эксперим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28960"/>
                <a:gridCol w="2135160"/>
                <a:gridCol w="2135160"/>
                <a:gridCol w="1930320"/>
              </a:tblGrid>
              <a:tr h="54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е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эксперим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эксперим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ян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4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ьная без резиновой проклад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6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ьная с резиновой проклад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502080" cy="256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340080" cy="2505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еран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ибиск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F:\Конференция по географии\Цветы и. т. д\Изображение 017.jpg"/>
          <p:cNvPicPr/>
          <p:nvPr/>
        </p:nvPicPr>
        <p:blipFill>
          <a:blip r:embed="rId1"/>
          <a:stretch/>
        </p:blipFill>
        <p:spPr>
          <a:xfrm>
            <a:off x="-10058400" y="-7543800"/>
            <a:ext cx="480060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8" name="Picture 8" descr="F:\Конференция по географии\Цветы и. т. д\Изображение 017.jpg"/>
          <p:cNvPicPr/>
          <p:nvPr/>
        </p:nvPicPr>
        <p:blipFill>
          <a:blip r:embed="rId2"/>
          <a:stretch/>
        </p:blipFill>
        <p:spPr>
          <a:xfrm>
            <a:off x="49682520" y="40538520"/>
            <a:ext cx="29260800" cy="21945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F:\Конференция по географии\Цветы и. т. д\Изображение 017.jpg"/>
          <p:cNvPicPr/>
          <p:nvPr/>
        </p:nvPicPr>
        <p:blipFill>
          <a:blip r:embed="rId3"/>
          <a:stretch/>
        </p:blipFill>
        <p:spPr>
          <a:xfrm>
            <a:off x="1828800" y="12193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радеска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177920"/>
            <a:ext cx="4876560" cy="450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леу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35200" y="1566720"/>
            <a:ext cx="3873600" cy="372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обрести опыт в оценке экологического состояния в жилых помещ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учить навык в определении степени загрязнения воздуха в помещении с помощ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дложить некоторые реально выполнимые рекомендации по улучшению экологии жилищ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ерический метод (наблюдение, изучение литерату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ес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довитые вещества, выделяемы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ебелью изготовленной из ДС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рмальдегид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нилхлор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цет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илаце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цетонит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лоро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ен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ро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ро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мми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кса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ихлорэ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цето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ц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ибутилфта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енз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сил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трахлорэти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ил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ил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довитые вещества, выделяемы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белью ДСП при пожа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анистый вод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лористый вод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торфосг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киси аз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 многие друг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нтетические ков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2730240" cy="2048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105520" y="3657600"/>
            <a:ext cx="273024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туральные ков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273024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ологически безопасные обои – мо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2048040" cy="272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204804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553080" y="838080"/>
            <a:ext cx="2048040" cy="273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76520" y="3886200"/>
            <a:ext cx="273024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105520" y="3809880"/>
            <a:ext cx="273024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0-01-19T17:33:4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